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2E15-43E0-4CEF-909E-79CEE789C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A1F7-E022-4042-B985-4BBD084A8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7221-C569-44A5-8AAF-C4A2A5C8C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FB8B-1F5E-4B2D-80C0-D50A7893D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FBA6-541D-4FBC-997F-0E5CB43FE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CAB0-C050-4D4E-90DE-C7CA511EB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4225-E129-4CD7-A602-0DC191690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C9A8-6171-44C1-B955-DEC7441DC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1B44-27FF-423F-AC5B-E54504B0D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F4FF-9637-4076-8574-C6C060E32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628E-4277-41CA-9ECD-579CD4A9F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C5B0-BA72-473C-8273-3752C4603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1F7DC-DDC3-4BF5-BDF3-D88453C2DC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406600" y="152280"/>
            <a:ext cx="4329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Rockwell"/>
              </a:rPr>
              <a:t>The Circle of Lear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553080" y="1752480"/>
            <a:ext cx="2371680" cy="1309680"/>
          </a:xfrm>
          <a:prstGeom prst="flowChartAlternateProcess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Rockwell"/>
              </a:rPr>
              <a:t>Get Ready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ockwell"/>
              </a:rPr>
              <a:t>Set purpose for learning and access prior knowle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762120"/>
            <a:ext cx="2371680" cy="1309680"/>
          </a:xfrm>
          <a:prstGeom prst="flowChartAlternateProcess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Rockwell"/>
              </a:rPr>
              <a:t>Prepa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ockwell"/>
              </a:rPr>
              <a:t>Recognize individual learner nee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543800" y="3124080"/>
            <a:ext cx="485640" cy="685800"/>
          </a:xfrm>
          <a:prstGeom prst="downArrow">
            <a:avLst>
              <a:gd name="adj1" fmla="val 50000"/>
              <a:gd name="adj2" fmla="val 35304"/>
            </a:avLst>
          </a:pr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553080" y="3886200"/>
            <a:ext cx="2371680" cy="1311120"/>
          </a:xfrm>
          <a:prstGeom prst="flowChartAlternateProcess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Rockwell"/>
              </a:rPr>
              <a:t>Lear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ockwell"/>
              </a:rPr>
              <a:t>Gather information and build on prior knowledge to construct new mea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876920" y="5334120"/>
            <a:ext cx="2400120" cy="1311120"/>
          </a:xfrm>
          <a:prstGeom prst="flowChartAlternateProcess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Rockwell"/>
              </a:rPr>
              <a:t>Guided Pract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ockwell"/>
              </a:rPr>
              <a:t>Work with support to develop understan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rot="2568000">
            <a:off x="7391520" y="5334120"/>
            <a:ext cx="48564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5334120"/>
            <a:ext cx="2371680" cy="1311120"/>
          </a:xfrm>
          <a:prstGeom prst="flowChartAlternateProcess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Rockwell"/>
              </a:rPr>
              <a:t>Individual Pract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ockwell"/>
              </a:rPr>
              <a:t>Work individually to see what you have mastered and what needs more pract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52280" y="3809880"/>
            <a:ext cx="2514600" cy="1311480"/>
          </a:xfrm>
          <a:prstGeom prst="flowChartAlternateProcess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Rockwell"/>
              </a:rPr>
              <a:t>Expression of Knowled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ockwell"/>
              </a:rPr>
              <a:t>Demonstrate what’s been lear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rot="8720400">
            <a:off x="914040" y="5334120"/>
            <a:ext cx="48564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52280" y="1752480"/>
            <a:ext cx="2371680" cy="1311480"/>
          </a:xfrm>
          <a:prstGeom prst="flowChartAlternateProcess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Rockwell"/>
              </a:rPr>
              <a:t>Reflection of Lear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ockwell"/>
              </a:rPr>
              <a:t>Recognize what went well and what can be worked on as a learn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914040" y="3124080"/>
            <a:ext cx="485640" cy="571680"/>
          </a:xfrm>
          <a:prstGeom prst="downArrow">
            <a:avLst>
              <a:gd name="adj1" fmla="val 50000"/>
              <a:gd name="adj2" fmla="val 29429"/>
            </a:avLst>
          </a:prstGeom>
          <a:solidFill>
            <a:srgbClr val="800080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5400000">
            <a:off x="4176720" y="5805360"/>
            <a:ext cx="48564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5320" y="2971800"/>
            <a:ext cx="2371680" cy="1311120"/>
          </a:xfrm>
          <a:prstGeom prst="flowChartAlternateProcess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Rockwell"/>
              </a:rPr>
              <a:t>Reflection of Progres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ockwell"/>
              </a:rPr>
              <a:t>Recognize and re-learn what you do not underst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17970000">
            <a:off x="3027240" y="4552920"/>
            <a:ext cx="898560" cy="485640"/>
          </a:xfrm>
          <a:prstGeom prst="rightArrow">
            <a:avLst>
              <a:gd name="adj1" fmla="val 50000"/>
              <a:gd name="adj2" fmla="val 46256"/>
            </a:avLst>
          </a:pr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14482200">
            <a:off x="5910120" y="2395440"/>
            <a:ext cx="486000" cy="571680"/>
          </a:xfrm>
          <a:prstGeom prst="downArrow">
            <a:avLst>
              <a:gd name="adj1" fmla="val 50000"/>
              <a:gd name="adj2" fmla="val 29407"/>
            </a:avLst>
          </a:pr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rot="10800000">
            <a:off x="990720" y="990000"/>
            <a:ext cx="2209680" cy="733320"/>
          </a:xfrm>
          <a:custGeom>
            <a:avLst/>
            <a:gdLst>
              <a:gd name="textAreaLeft" fmla="*/ 736560 w 2209680"/>
              <a:gd name="textAreaRight" fmla="*/ 1892520 w 2209680"/>
              <a:gd name="textAreaTop" fmla="*/ 422280 h 733320"/>
              <a:gd name="textAreaBottom" fmla="*/ 628200 h 7333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6870240" y="444240"/>
            <a:ext cx="685800" cy="1778040"/>
          </a:xfrm>
          <a:custGeom>
            <a:avLst/>
            <a:gdLst>
              <a:gd name="textAreaLeft" fmla="*/ 0 w 685800"/>
              <a:gd name="textAreaRight" fmla="*/ 686160 w 685800"/>
              <a:gd name="textAreaTop" fmla="*/ 0 h 1778040"/>
              <a:gd name="textAreaBottom" fmla="*/ 1778400 h 17780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2T16:32:46Z</dcterms:created>
  <dc:creator>Amy Story</dc:creator>
  <dc:description/>
  <dc:language>en-US</dc:language>
  <cp:lastModifiedBy>Amy Story</cp:lastModifiedBy>
  <dcterms:modified xsi:type="dcterms:W3CDTF">2010-11-19T19:10:57Z</dcterms:modified>
  <cp:revision>4</cp:revision>
  <dc:subject/>
  <dc:title>Slide 1</dc:title>
</cp:coreProperties>
</file>